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C56F-FEE6-414A-9013-BABD432B4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BD9A-69D1-4A06-9081-1CF3D78BF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526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9-</a:t>
            </a:r>
            <a:fld id="{026701A2-C220-4F67-8CE7-792D40C90EA2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Management: Quality, Time, and the Theory of Constra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f quality (COQ) are costs incurred to rectify the production of of low-quality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categories of COQ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vention costs (design and process enginee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ppraisal costs (inspection cost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failure costs (spoilage and re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ternal failure costs (warranty repair 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3 - 7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952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cific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209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 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096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590920"/>
            <a:ext cx="3045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to Analyze Quality Probl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1371600"/>
            <a:ext cx="56311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stical quality control (SQC) or statistical process control (SPC) employ control charts to monitor successive observations at regular intervals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371600"/>
            <a:ext cx="0" cy="152388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895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13372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1752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51460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05120"/>
            <a:ext cx="7596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362320"/>
            <a:ext cx="7632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19810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17524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5238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2952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7 - 7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505320"/>
            <a:ext cx="8077320" cy="990360"/>
            <a:chOff x="380880" y="3505320"/>
            <a:chExt cx="8077320" cy="990360"/>
          </a:xfrm>
        </p:grpSpPr>
        <p:sp>
          <p:nvSpPr>
            <p:cNvPr id="81" name=""/>
            <p:cNvSpPr/>
            <p:nvPr/>
          </p:nvSpPr>
          <p:spPr>
            <a:xfrm>
              <a:off x="6629400" y="3657600"/>
              <a:ext cx="228600" cy="838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86600" y="3809880"/>
              <a:ext cx="228600" cy="685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43800" y="3886200"/>
              <a:ext cx="228600" cy="609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1000" y="4191120"/>
              <a:ext cx="22860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3505320"/>
              <a:ext cx="0" cy="990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880" y="3581280"/>
              <a:ext cx="5631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areto diagrams indicates the frequency of failures (defects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0880" y="4724280"/>
            <a:ext cx="8458200" cy="1600200"/>
            <a:chOff x="380880" y="4724280"/>
            <a:chExt cx="8458200" cy="1600200"/>
          </a:xfrm>
        </p:grpSpPr>
        <p:sp>
          <p:nvSpPr>
            <p:cNvPr id="89" name=""/>
            <p:cNvSpPr/>
            <p:nvPr/>
          </p:nvSpPr>
          <p:spPr>
            <a:xfrm>
              <a:off x="6248520" y="50292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0800" y="52578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57150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59436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4380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510552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86728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3432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0100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34520" y="5486400"/>
              <a:ext cx="304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543800" y="556236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43800" y="533412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4724280"/>
              <a:ext cx="5631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ause-and-Effect diagrams identifies potential causes of failures or defects such as human error or component fail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financial Measures of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 if a product is defect free and meets conformance quality, it still must satisfy customer nee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otal customer satisfaction including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eatures that provide fair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when promi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a defect-free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oid early fail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sure that product will not fail excessively in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attention on costs of poor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financial measures to evaluate savings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nonfinancial measures to monitor suc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3 -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Quality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Cost of Quality (COQ) 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es attention on how costly poor quality can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ws for  comparison of different programs and setting prior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a common basis for measuring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nonfinancial measures of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sy to quantify and understan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ttention at the precise probl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intermediate feedback on achiev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useful long-run indicator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 is a key variable in competi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things faster helps increase revenues and decreas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of time in terms of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response time (order receipt to delivery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-Time Performance:  delivered on promised d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ime driver is any factor where change in the factor causes a change in the speed of the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certainty about when the customer will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ed capacity and bottleneck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4 - 7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440" y="1295280"/>
            <a:ext cx="84502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y of Constraints (TOC) describes  methods of maximizing operating income when faced with a bottlene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ntribution:  Sales –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 (inventory):  Material inventory, work-in-process, finished goods, R&amp;D, and cost of equipment and building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: all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of TOC is to increase throughput contribution while decreasing investments and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9 - 7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of Bottleneck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that the bottleneck resource determines throughput con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rch and find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the bottleneck operation busy and subordinate all nonbottleneck resources to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ke action to increase bottleneck efficiency and capac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20 - 7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800" y="4952880"/>
            <a:ext cx="845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TOC Actions:  eliminate idle time at the bottleneck, eliminate production of nonessential products, reduce setup time at bottlenec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0:30:40Z</dcterms:created>
  <dc:creator>User</dc:creator>
  <dc:description/>
  <dc:language>en-US</dc:language>
  <cp:lastModifiedBy>John Moore</cp:lastModifiedBy>
  <cp:lastPrinted>1999-06-07T01:37:54Z</cp:lastPrinted>
  <dcterms:modified xsi:type="dcterms:W3CDTF">2003-03-22T13:22:39Z</dcterms:modified>
  <cp:revision>20</cp:revision>
  <dc:subject/>
  <dc:title>Quality As A Competitive Weapon</dc:title>
</cp:coreProperties>
</file>